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395-BB47-4FA1-B565-1A5016EA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289-86D6-4D86-8AF9-CFC9070B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9D1-B3C0-45E3-9544-FCD2A228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D93-BA48-48DF-88EA-7CAB015E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EA1-A764-469A-A68D-2980F10A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939-894F-4B4D-8DE9-5875811E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5AC-ED65-4E04-AC7A-6203CFD0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AB8-2E45-4482-96D7-CD95215A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EAA-190B-4A6B-BD90-E4D7652F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4BA-98B8-4FEA-9532-700E49B8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6A7-3AAB-4F88-9FB1-06424C5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B03-343C-42D2-B38D-1D915D56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5557-AAC8-4C9E-BBF6-EFA6749FB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22.xml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30.xml"/><Relationship Id="rId8" Type="http://schemas.openxmlformats.org/officeDocument/2006/relationships/slide" Target="slide20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14.xml"/><Relationship Id="rId12" Type="http://schemas.openxmlformats.org/officeDocument/2006/relationships/slide" Target="slide28.xml"/><Relationship Id="rId13" Type="http://schemas.openxmlformats.org/officeDocument/2006/relationships/slide" Target="slide35.xml"/><Relationship Id="rId14" Type="http://schemas.openxmlformats.org/officeDocument/2006/relationships/slide" Target="slide37.xml"/><Relationship Id="rId15" Type="http://schemas.openxmlformats.org/officeDocument/2006/relationships/slide" Target="slide39.xml"/><Relationship Id="rId16" Type="http://schemas.openxmlformats.org/officeDocument/2006/relationships/slide" Target="slide41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601992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 Small Cap"/>
              </a:rPr>
              <a:t>MONDAY TEST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523880"/>
          <a:ext cx="8305920" cy="44499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828800"/>
                <a:gridCol w="1658880"/>
                <a:gridCol w="1617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Vocabulary Defin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Vocabulary Fill-In the Bl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Machiave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Old Vocabul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SURP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8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533520" y="2514600"/>
            <a:ext cx="1447560" cy="76212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18" h="21600">
                <a:moveTo>
                  <a:pt x="0" y="0"/>
                </a:moveTo>
                <a:lnTo>
                  <a:pt x="41018" y="0"/>
                </a:lnTo>
                <a:lnTo>
                  <a:pt x="41018" y="21600"/>
                </a:lnTo>
                <a:lnTo>
                  <a:pt x="0" y="21600"/>
                </a:lnTo>
                <a:close/>
              </a:path>
              <a:path fill="lightenLess" w="41018" h="21600">
                <a:moveTo>
                  <a:pt x="0" y="0"/>
                </a:moveTo>
                <a:lnTo>
                  <a:pt x="41018" y="0"/>
                </a:lnTo>
                <a:lnTo>
                  <a:pt x="39618" y="1400"/>
                </a:lnTo>
                <a:lnTo>
                  <a:pt x="1400" y="1400"/>
                </a:lnTo>
                <a:close/>
              </a:path>
              <a:path fill="darken" w="41018" h="21600">
                <a:moveTo>
                  <a:pt x="41018" y="0"/>
                </a:moveTo>
                <a:lnTo>
                  <a:pt x="41018" y="21600"/>
                </a:lnTo>
                <a:lnTo>
                  <a:pt x="39618" y="20200"/>
                </a:lnTo>
                <a:lnTo>
                  <a:pt x="39618" y="1400"/>
                </a:lnTo>
                <a:close/>
              </a:path>
              <a:path fill="darkenLess" w="41018" h="21600">
                <a:moveTo>
                  <a:pt x="41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8" y="20200"/>
                </a:lnTo>
                <a:close/>
              </a:path>
              <a:path fill="lighten" w="41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8" h="21600">
                <a:moveTo>
                  <a:pt x="13502" y="3794"/>
                </a:moveTo>
                <a:lnTo>
                  <a:pt x="27515" y="10800"/>
                </a:lnTo>
                <a:lnTo>
                  <a:pt x="1350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352680"/>
            <a:ext cx="1447560" cy="76212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18" h="21600">
                <a:moveTo>
                  <a:pt x="0" y="0"/>
                </a:moveTo>
                <a:lnTo>
                  <a:pt x="41018" y="0"/>
                </a:lnTo>
                <a:lnTo>
                  <a:pt x="41018" y="21600"/>
                </a:lnTo>
                <a:lnTo>
                  <a:pt x="0" y="21600"/>
                </a:lnTo>
                <a:close/>
              </a:path>
              <a:path fill="lightenLess" w="41018" h="21600">
                <a:moveTo>
                  <a:pt x="0" y="0"/>
                </a:moveTo>
                <a:lnTo>
                  <a:pt x="41018" y="0"/>
                </a:lnTo>
                <a:lnTo>
                  <a:pt x="39618" y="1400"/>
                </a:lnTo>
                <a:lnTo>
                  <a:pt x="1400" y="1400"/>
                </a:lnTo>
                <a:close/>
              </a:path>
              <a:path fill="darken" w="41018" h="21600">
                <a:moveTo>
                  <a:pt x="41018" y="0"/>
                </a:moveTo>
                <a:lnTo>
                  <a:pt x="41018" y="21600"/>
                </a:lnTo>
                <a:lnTo>
                  <a:pt x="39618" y="20200"/>
                </a:lnTo>
                <a:lnTo>
                  <a:pt x="39618" y="1400"/>
                </a:lnTo>
                <a:close/>
              </a:path>
              <a:path fill="darkenLess" w="41018" h="21600">
                <a:moveTo>
                  <a:pt x="41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8" y="20200"/>
                </a:lnTo>
                <a:close/>
              </a:path>
              <a:path fill="lighten" w="41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8" h="21600">
                <a:moveTo>
                  <a:pt x="13502" y="3794"/>
                </a:moveTo>
                <a:lnTo>
                  <a:pt x="27515" y="10800"/>
                </a:lnTo>
                <a:lnTo>
                  <a:pt x="1350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533520" y="42670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80" h="21600">
                <a:moveTo>
                  <a:pt x="15783" y="3794"/>
                </a:moveTo>
                <a:lnTo>
                  <a:pt x="29796" y="10800"/>
                </a:lnTo>
                <a:lnTo>
                  <a:pt x="1578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105520"/>
            <a:ext cx="1447560" cy="76176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37" h="21600">
                <a:moveTo>
                  <a:pt x="0" y="0"/>
                </a:moveTo>
                <a:lnTo>
                  <a:pt x="41037" y="0"/>
                </a:lnTo>
                <a:lnTo>
                  <a:pt x="41037" y="21600"/>
                </a:lnTo>
                <a:lnTo>
                  <a:pt x="0" y="21600"/>
                </a:lnTo>
                <a:close/>
              </a:path>
              <a:path fill="lightenLess" w="41037" h="21600">
                <a:moveTo>
                  <a:pt x="0" y="0"/>
                </a:moveTo>
                <a:lnTo>
                  <a:pt x="41037" y="0"/>
                </a:lnTo>
                <a:lnTo>
                  <a:pt x="39637" y="1400"/>
                </a:lnTo>
                <a:lnTo>
                  <a:pt x="1400" y="1400"/>
                </a:lnTo>
                <a:close/>
              </a:path>
              <a:path fill="darken" w="41037" h="21600">
                <a:moveTo>
                  <a:pt x="41037" y="0"/>
                </a:moveTo>
                <a:lnTo>
                  <a:pt x="41037" y="21600"/>
                </a:lnTo>
                <a:lnTo>
                  <a:pt x="39637" y="20200"/>
                </a:lnTo>
                <a:lnTo>
                  <a:pt x="39637" y="1400"/>
                </a:lnTo>
                <a:close/>
              </a:path>
              <a:path fill="darkenLess" w="41037" h="21600">
                <a:moveTo>
                  <a:pt x="41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37" y="20200"/>
                </a:lnTo>
                <a:close/>
              </a:path>
              <a:path fill="lighten" w="41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37" h="21600">
                <a:moveTo>
                  <a:pt x="13512" y="3794"/>
                </a:moveTo>
                <a:lnTo>
                  <a:pt x="27525" y="10800"/>
                </a:lnTo>
                <a:lnTo>
                  <a:pt x="1351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4343400" y="327672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1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1" y="20200"/>
                </a:lnTo>
                <a:lnTo>
                  <a:pt x="34591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1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1" h="21600">
                <a:moveTo>
                  <a:pt x="10989" y="3794"/>
                </a:moveTo>
                <a:lnTo>
                  <a:pt x="25002" y="10800"/>
                </a:lnTo>
                <a:lnTo>
                  <a:pt x="109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2057400" y="2438280"/>
            <a:ext cx="2286000" cy="838440"/>
          </a:xfrm>
          <a:custGeom>
            <a:avLst/>
            <a:gdLst>
              <a:gd name="textAreaLeft" fmla="*/ 54360 w 2286000"/>
              <a:gd name="textAreaRight" fmla="*/ 2231640 w 2286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8876" h="21600">
                <a:moveTo>
                  <a:pt x="0" y="0"/>
                </a:moveTo>
                <a:lnTo>
                  <a:pt x="58876" y="0"/>
                </a:lnTo>
                <a:lnTo>
                  <a:pt x="58876" y="21600"/>
                </a:lnTo>
                <a:lnTo>
                  <a:pt x="0" y="21600"/>
                </a:lnTo>
                <a:close/>
              </a:path>
              <a:path fill="lightenLess" w="58876" h="21600">
                <a:moveTo>
                  <a:pt x="0" y="0"/>
                </a:moveTo>
                <a:lnTo>
                  <a:pt x="58876" y="0"/>
                </a:lnTo>
                <a:lnTo>
                  <a:pt x="57476" y="1400"/>
                </a:lnTo>
                <a:lnTo>
                  <a:pt x="1400" y="1400"/>
                </a:lnTo>
                <a:close/>
              </a:path>
              <a:path fill="darken" w="58876" h="21600">
                <a:moveTo>
                  <a:pt x="58876" y="0"/>
                </a:moveTo>
                <a:lnTo>
                  <a:pt x="58876" y="21600"/>
                </a:lnTo>
                <a:lnTo>
                  <a:pt x="57476" y="20200"/>
                </a:lnTo>
                <a:lnTo>
                  <a:pt x="57476" y="1400"/>
                </a:lnTo>
                <a:close/>
              </a:path>
              <a:path fill="darkenLess" w="58876" h="21600">
                <a:moveTo>
                  <a:pt x="5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476" y="20200"/>
                </a:lnTo>
                <a:close/>
              </a:path>
              <a:path fill="lighten" w="5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876" h="21600">
                <a:moveTo>
                  <a:pt x="22432" y="3794"/>
                </a:moveTo>
                <a:lnTo>
                  <a:pt x="36445" y="10800"/>
                </a:lnTo>
                <a:lnTo>
                  <a:pt x="2243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1981080" y="4191120"/>
            <a:ext cx="2362320" cy="838080"/>
          </a:xfrm>
          <a:custGeom>
            <a:avLst/>
            <a:gdLst>
              <a:gd name="textAreaLeft" fmla="*/ 54000 w 2362320"/>
              <a:gd name="textAreaRight" fmla="*/ 2308320 w 2362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0868" h="21600">
                <a:moveTo>
                  <a:pt x="0" y="0"/>
                </a:moveTo>
                <a:lnTo>
                  <a:pt x="60868" y="0"/>
                </a:lnTo>
                <a:lnTo>
                  <a:pt x="60868" y="21600"/>
                </a:lnTo>
                <a:lnTo>
                  <a:pt x="0" y="21600"/>
                </a:lnTo>
                <a:close/>
              </a:path>
              <a:path fill="lightenLess" w="60868" h="21600">
                <a:moveTo>
                  <a:pt x="0" y="0"/>
                </a:moveTo>
                <a:lnTo>
                  <a:pt x="60868" y="0"/>
                </a:lnTo>
                <a:lnTo>
                  <a:pt x="59468" y="1400"/>
                </a:lnTo>
                <a:lnTo>
                  <a:pt x="1400" y="1400"/>
                </a:lnTo>
                <a:close/>
              </a:path>
              <a:path fill="darken" w="60868" h="21600">
                <a:moveTo>
                  <a:pt x="60868" y="0"/>
                </a:moveTo>
                <a:lnTo>
                  <a:pt x="60868" y="21600"/>
                </a:lnTo>
                <a:lnTo>
                  <a:pt x="59468" y="20200"/>
                </a:lnTo>
                <a:lnTo>
                  <a:pt x="59468" y="1400"/>
                </a:lnTo>
                <a:close/>
              </a:path>
              <a:path fill="darkenLess" w="60868" h="21600">
                <a:moveTo>
                  <a:pt x="60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468" y="20200"/>
                </a:lnTo>
                <a:close/>
              </a:path>
              <a:path fill="lighten" w="60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868" h="21600">
                <a:moveTo>
                  <a:pt x="23427" y="3794"/>
                </a:moveTo>
                <a:lnTo>
                  <a:pt x="37440" y="10800"/>
                </a:lnTo>
                <a:lnTo>
                  <a:pt x="2342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2057400" y="51055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00" h="21600">
                <a:moveTo>
                  <a:pt x="25394" y="3794"/>
                </a:moveTo>
                <a:lnTo>
                  <a:pt x="39406" y="10800"/>
                </a:lnTo>
                <a:lnTo>
                  <a:pt x="253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5943600" y="33526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8" action="ppaction://hlinksldjump"/>
          </p:cNvPr>
          <p:cNvSpPr/>
          <p:nvPr/>
        </p:nvSpPr>
        <p:spPr>
          <a:xfrm>
            <a:off x="4343400" y="2438280"/>
            <a:ext cx="1523880" cy="838440"/>
          </a:xfrm>
          <a:custGeom>
            <a:avLst/>
            <a:gdLst>
              <a:gd name="textAreaLeft" fmla="*/ 54360 w 1523880"/>
              <a:gd name="textAreaRight" fmla="*/ 1469520 w 15238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9251" h="21600">
                <a:moveTo>
                  <a:pt x="0" y="0"/>
                </a:moveTo>
                <a:lnTo>
                  <a:pt x="39251" y="0"/>
                </a:lnTo>
                <a:lnTo>
                  <a:pt x="39251" y="21600"/>
                </a:lnTo>
                <a:lnTo>
                  <a:pt x="0" y="21600"/>
                </a:lnTo>
                <a:close/>
              </a:path>
              <a:path fill="lightenLess" w="39251" h="21600">
                <a:moveTo>
                  <a:pt x="0" y="0"/>
                </a:moveTo>
                <a:lnTo>
                  <a:pt x="39251" y="0"/>
                </a:lnTo>
                <a:lnTo>
                  <a:pt x="37851" y="1400"/>
                </a:lnTo>
                <a:lnTo>
                  <a:pt x="1400" y="1400"/>
                </a:lnTo>
                <a:close/>
              </a:path>
              <a:path fill="darken" w="39251" h="21600">
                <a:moveTo>
                  <a:pt x="39251" y="0"/>
                </a:moveTo>
                <a:lnTo>
                  <a:pt x="39251" y="21600"/>
                </a:lnTo>
                <a:lnTo>
                  <a:pt x="37851" y="20200"/>
                </a:lnTo>
                <a:lnTo>
                  <a:pt x="37851" y="1400"/>
                </a:lnTo>
                <a:close/>
              </a:path>
              <a:path fill="darkenLess" w="39251" h="21600">
                <a:moveTo>
                  <a:pt x="39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51" y="20200"/>
                </a:lnTo>
                <a:close/>
              </a:path>
              <a:path fill="lighten" w="39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51" h="21600">
                <a:moveTo>
                  <a:pt x="12619" y="3794"/>
                </a:moveTo>
                <a:lnTo>
                  <a:pt x="26632" y="10800"/>
                </a:lnTo>
                <a:lnTo>
                  <a:pt x="1261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4343400" y="4191120"/>
            <a:ext cx="1523880" cy="838080"/>
          </a:xfrm>
          <a:custGeom>
            <a:avLst/>
            <a:gdLst>
              <a:gd name="textAreaLeft" fmla="*/ 54000 w 1523880"/>
              <a:gd name="textAreaRight" fmla="*/ 1469880 w 1523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9268" h="21600">
                <a:moveTo>
                  <a:pt x="0" y="0"/>
                </a:moveTo>
                <a:lnTo>
                  <a:pt x="39268" y="0"/>
                </a:lnTo>
                <a:lnTo>
                  <a:pt x="39268" y="21600"/>
                </a:lnTo>
                <a:lnTo>
                  <a:pt x="0" y="21600"/>
                </a:lnTo>
                <a:close/>
              </a:path>
              <a:path fill="lightenLess" w="39268" h="21600">
                <a:moveTo>
                  <a:pt x="0" y="0"/>
                </a:moveTo>
                <a:lnTo>
                  <a:pt x="39268" y="0"/>
                </a:lnTo>
                <a:lnTo>
                  <a:pt x="37868" y="1400"/>
                </a:lnTo>
                <a:lnTo>
                  <a:pt x="1400" y="1400"/>
                </a:lnTo>
                <a:close/>
              </a:path>
              <a:path fill="darken" w="39268" h="21600">
                <a:moveTo>
                  <a:pt x="39268" y="0"/>
                </a:moveTo>
                <a:lnTo>
                  <a:pt x="39268" y="21600"/>
                </a:lnTo>
                <a:lnTo>
                  <a:pt x="37868" y="20200"/>
                </a:lnTo>
                <a:lnTo>
                  <a:pt x="37868" y="1400"/>
                </a:lnTo>
                <a:close/>
              </a:path>
              <a:path fill="darkenLess" w="39268" h="21600">
                <a:moveTo>
                  <a:pt x="39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8" y="20200"/>
                </a:lnTo>
                <a:close/>
              </a:path>
              <a:path fill="lighten" w="39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68" h="21600">
                <a:moveTo>
                  <a:pt x="12627" y="3794"/>
                </a:moveTo>
                <a:lnTo>
                  <a:pt x="26640" y="10800"/>
                </a:lnTo>
                <a:lnTo>
                  <a:pt x="1262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4343400" y="5105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2057400" y="33526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74" h="21600">
                <a:moveTo>
                  <a:pt x="28980" y="3794"/>
                </a:moveTo>
                <a:lnTo>
                  <a:pt x="42993" y="10800"/>
                </a:lnTo>
                <a:lnTo>
                  <a:pt x="2898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2" action="ppaction://hlinksldjump"/>
          </p:cNvPr>
          <p:cNvSpPr/>
          <p:nvPr/>
        </p:nvSpPr>
        <p:spPr>
          <a:xfrm>
            <a:off x="5943600" y="24382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3794"/>
                </a:moveTo>
                <a:lnTo>
                  <a:pt x="21728" y="10800"/>
                </a:lnTo>
                <a:lnTo>
                  <a:pt x="77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19112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3" action="ppaction://hlinksldjump"/>
          </p:cNvPr>
          <p:cNvSpPr/>
          <p:nvPr/>
        </p:nvSpPr>
        <p:spPr>
          <a:xfrm>
            <a:off x="5943600" y="5105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lastslide"/>
          </p:cNvPr>
          <p:cNvSpPr/>
          <p:nvPr/>
        </p:nvSpPr>
        <p:spPr>
          <a:xfrm>
            <a:off x="1522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4" action="ppaction://hlinksldjump"/>
          </p:cNvPr>
          <p:cNvSpPr/>
          <p:nvPr/>
        </p:nvSpPr>
        <p:spPr>
          <a:xfrm>
            <a:off x="7162920" y="2438280"/>
            <a:ext cx="1600200" cy="838440"/>
          </a:xfrm>
          <a:custGeom>
            <a:avLst/>
            <a:gdLst>
              <a:gd name="textAreaLeft" fmla="*/ 54360 w 1600200"/>
              <a:gd name="textAreaRight" fmla="*/ 1545840 w 16002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1216" h="21600">
                <a:moveTo>
                  <a:pt x="0" y="0"/>
                </a:moveTo>
                <a:lnTo>
                  <a:pt x="41216" y="0"/>
                </a:lnTo>
                <a:lnTo>
                  <a:pt x="41216" y="21600"/>
                </a:lnTo>
                <a:lnTo>
                  <a:pt x="0" y="21600"/>
                </a:lnTo>
                <a:close/>
              </a:path>
              <a:path fill="lightenLess" w="41216" h="21600">
                <a:moveTo>
                  <a:pt x="0" y="0"/>
                </a:moveTo>
                <a:lnTo>
                  <a:pt x="41216" y="0"/>
                </a:lnTo>
                <a:lnTo>
                  <a:pt x="39816" y="1400"/>
                </a:lnTo>
                <a:lnTo>
                  <a:pt x="1400" y="1400"/>
                </a:lnTo>
                <a:close/>
              </a:path>
              <a:path fill="darken" w="41216" h="21600">
                <a:moveTo>
                  <a:pt x="41216" y="0"/>
                </a:moveTo>
                <a:lnTo>
                  <a:pt x="41216" y="21600"/>
                </a:lnTo>
                <a:lnTo>
                  <a:pt x="39816" y="20200"/>
                </a:lnTo>
                <a:lnTo>
                  <a:pt x="39816" y="1400"/>
                </a:lnTo>
                <a:close/>
              </a:path>
              <a:path fill="darkenLess" w="41216" h="21600">
                <a:moveTo>
                  <a:pt x="41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16" y="20200"/>
                </a:lnTo>
                <a:close/>
              </a:path>
              <a:path fill="lighten" w="41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16" h="21600">
                <a:moveTo>
                  <a:pt x="13602" y="3794"/>
                </a:moveTo>
                <a:lnTo>
                  <a:pt x="27615" y="10800"/>
                </a:lnTo>
                <a:lnTo>
                  <a:pt x="1360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5" action="ppaction://hlinksldjump"/>
          </p:cNvPr>
          <p:cNvSpPr/>
          <p:nvPr/>
        </p:nvSpPr>
        <p:spPr>
          <a:xfrm>
            <a:off x="7162920" y="327672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13610" y="3794"/>
                </a:moveTo>
                <a:lnTo>
                  <a:pt x="27623" y="10800"/>
                </a:lnTo>
                <a:lnTo>
                  <a:pt x="136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6" action="ppaction://hlinksldjump"/>
          </p:cNvPr>
          <p:cNvSpPr/>
          <p:nvPr/>
        </p:nvSpPr>
        <p:spPr>
          <a:xfrm>
            <a:off x="7162920" y="419112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13610" y="3794"/>
                </a:moveTo>
                <a:lnTo>
                  <a:pt x="27623" y="10800"/>
                </a:lnTo>
                <a:lnTo>
                  <a:pt x="136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5029200"/>
            <a:ext cx="1523880" cy="838080"/>
          </a:xfrm>
          <a:custGeom>
            <a:avLst/>
            <a:gdLst>
              <a:gd name="textAreaLeft" fmla="*/ 54000 w 1523880"/>
              <a:gd name="textAreaRight" fmla="*/ 1469880 w 1523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9268" h="21600">
                <a:moveTo>
                  <a:pt x="0" y="0"/>
                </a:moveTo>
                <a:lnTo>
                  <a:pt x="39268" y="0"/>
                </a:lnTo>
                <a:lnTo>
                  <a:pt x="39268" y="21600"/>
                </a:lnTo>
                <a:lnTo>
                  <a:pt x="0" y="21600"/>
                </a:lnTo>
                <a:close/>
              </a:path>
              <a:path fill="lightenLess" w="39268" h="21600">
                <a:moveTo>
                  <a:pt x="0" y="0"/>
                </a:moveTo>
                <a:lnTo>
                  <a:pt x="39268" y="0"/>
                </a:lnTo>
                <a:lnTo>
                  <a:pt x="37868" y="1400"/>
                </a:lnTo>
                <a:lnTo>
                  <a:pt x="1400" y="1400"/>
                </a:lnTo>
                <a:close/>
              </a:path>
              <a:path fill="darken" w="39268" h="21600">
                <a:moveTo>
                  <a:pt x="39268" y="0"/>
                </a:moveTo>
                <a:lnTo>
                  <a:pt x="39268" y="21600"/>
                </a:lnTo>
                <a:lnTo>
                  <a:pt x="37868" y="20200"/>
                </a:lnTo>
                <a:lnTo>
                  <a:pt x="37868" y="1400"/>
                </a:lnTo>
                <a:close/>
              </a:path>
              <a:path fill="darkenLess" w="39268" h="21600">
                <a:moveTo>
                  <a:pt x="39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8" y="20200"/>
                </a:lnTo>
                <a:close/>
              </a:path>
              <a:path fill="lighten" w="39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68" h="21600">
                <a:moveTo>
                  <a:pt x="12627" y="3794"/>
                </a:moveTo>
                <a:lnTo>
                  <a:pt x="26640" y="10800"/>
                </a:lnTo>
                <a:lnTo>
                  <a:pt x="1262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6095880"/>
            <a:ext cx="1905120" cy="53352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93" h="21600">
                <a:moveTo>
                  <a:pt x="0" y="0"/>
                </a:moveTo>
                <a:lnTo>
                  <a:pt x="77093" y="0"/>
                </a:lnTo>
                <a:lnTo>
                  <a:pt x="77093" y="21600"/>
                </a:lnTo>
                <a:lnTo>
                  <a:pt x="0" y="21600"/>
                </a:lnTo>
                <a:close/>
              </a:path>
              <a:path fill="lightenLess" w="77093" h="21600">
                <a:moveTo>
                  <a:pt x="0" y="0"/>
                </a:moveTo>
                <a:lnTo>
                  <a:pt x="77093" y="0"/>
                </a:lnTo>
                <a:lnTo>
                  <a:pt x="75693" y="1400"/>
                </a:lnTo>
                <a:lnTo>
                  <a:pt x="1400" y="1400"/>
                </a:lnTo>
                <a:close/>
              </a:path>
              <a:path fill="darken" w="77093" h="21600">
                <a:moveTo>
                  <a:pt x="77093" y="0"/>
                </a:moveTo>
                <a:lnTo>
                  <a:pt x="77093" y="21600"/>
                </a:lnTo>
                <a:lnTo>
                  <a:pt x="75693" y="20200"/>
                </a:lnTo>
                <a:lnTo>
                  <a:pt x="75693" y="1400"/>
                </a:lnTo>
                <a:close/>
              </a:path>
              <a:path fill="darkenLess" w="77093" h="21600">
                <a:moveTo>
                  <a:pt x="77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93" y="20200"/>
                </a:lnTo>
                <a:close/>
              </a:path>
              <a:path fill="lighten" w="77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 FILL-IN THE BLANKS</a:t>
            </a:r>
            <a:br>
              <a:rPr sz="4400"/>
            </a:b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*800*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685800" y="4343400"/>
            <a:ext cx="9829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hrewd/shrewd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dium/odious/odi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xorbitant/exorbitant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ser/miser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stow/bestows/bestow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mpaigns/campaig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empt/contemptu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stentation/ostentatious/ostentatious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286000"/>
            <a:ext cx="84582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ody really like the woman who lived down the street.  She was uppity and _______ about how much money she h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602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380880" y="6858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286000"/>
            <a:ext cx="84582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ody really like the woman who lived down the street.  She was uppity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stentati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ut how much money she h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. DEFINITIONS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2286000"/>
            <a:ext cx="84582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wor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MPA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 Machiavelli use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602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380880" y="7621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286000"/>
            <a:ext cx="845820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MPAIGN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. DEFINITIONS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2438280"/>
            <a:ext cx="8458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wor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602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380880" y="7621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362320"/>
            <a:ext cx="8458200" cy="1676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ER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one stingy, someone who is NOT gen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. DEFINITIONS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2438280"/>
            <a:ext cx="8458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wor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602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380880" y="7621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752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MPT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tred or strong dis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. DEFINITIONS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438280"/>
            <a:ext cx="8458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wor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ENTAT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02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380880" y="7621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362320"/>
            <a:ext cx="8458200" cy="1676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ENTATIOUS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y, showing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 FILL-IN THE BLANKS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45820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ika narrowed her eyes and looked at Ms. Molleur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 when s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 upon the class yet another paper to write for AP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685800" y="4343400"/>
            <a:ext cx="9829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hrewd/shrewd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dium/odious/odi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xorbitant/exorbitant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ser/miser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stow/bestows/bestow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mpaigns/campaig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empt/contemptu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stentation/ostentatious/ostentatious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02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IAVELLI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2438280"/>
            <a:ext cx="845820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chiavelli wrot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Pri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t a time when the county of (1) _________ was experiencing a lot of (2) 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Fill in each blank with something that 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r own word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602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380880" y="7621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438280"/>
            <a:ext cx="845820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chiavelli wrot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Pri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t a time when the county of Italy was experiencing a lot of political conflict and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Fill in each blank with something that 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r own word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IAVELLI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04920" y="2438280"/>
            <a:ext cx="845820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ord “MACHIAVELLIAN” means…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602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380880" y="7621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2438280"/>
            <a:ext cx="845820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ord “MACHIAVELLIAN” me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thless, manipulative, and doing whatever it takes to keep po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IAVELLI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4920" y="2438280"/>
            <a:ext cx="845820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eople in Machiavelli’s time (and even today!) think that princes and leaders should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avelli believed it was okay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105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Fill in each blank with something that 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own word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602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438280"/>
            <a:ext cx="845820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eople in Machiavelli’s time (and even today!) think that princes and leaders should b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tu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avelli believed it was okay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t immorally to keep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IAVELLI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8632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many people initially disagree with this idea, Machiavelli believed that a prince should NOT be __________________ in order to avoid being hated and loosing po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6024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many people initially disagree with this idea, Machiavelli believed that a prince should NOT b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ner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order to avoid being hated and loosing po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VOCABULARY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03280" cy="244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bu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6024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buke means to express sharp disapproval or repriman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ka narrowed her eyes and looked at Ms. Molleur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empt or odious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s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stow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on the class yet another paper to write for AP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VOCABULARY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if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6024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fle – to silence, suppress, or suffoca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DOUBLE JEOPARDY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VOCABULARY</a:t>
            </a:r>
            <a:br>
              <a:rPr sz="4400"/>
            </a:b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*600*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rie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36024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ieve means a brea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VOCABULARY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ac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36024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actic means teacher-like/preach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920" y="2438280"/>
            <a:ext cx="853416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e turmoil in Italy at the time, Machiavelli believed that a prince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st importa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should be to _______________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im, this was more important than being virtuous, generous, or liked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36024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438280"/>
            <a:ext cx="853416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e turmoil in Italy at the time, Machiavelli believed that a prince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st importa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should be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o WHATEVER it takes to KEEP P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im, this was more important than being virtuous, generous, or liked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04920" y="2438280"/>
            <a:ext cx="853416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o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words “exorbitant taxes”? 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o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words “high taxes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6024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DOUBLE JEOPARDY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o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words “exorbitant taxes”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o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words “high taxes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0"/>
          <a:ext cx="365040" cy="10102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0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57200" y="2590920"/>
            <a:ext cx="83818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ext did Jonathan Swift write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36024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590920"/>
            <a:ext cx="83818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nathan Swift wrot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“A Modest Proposal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57200" y="2590920"/>
            <a:ext cx="8381880" cy="380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riting of both Machiavelli Gabriel Jose Garcia Marquez was shaped by their backgrou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simila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Machiavelli’s background and Gabriel Jose Garcia Marquez’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WO DIFFER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36024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828800"/>
            <a:ext cx="8458200" cy="487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milarity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avelli and Marquez both lived in countries that had a lot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tical confl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upted leader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Machiavelli wro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fiction/ess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lived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 Ita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quez wro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ved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 Columbi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ly think of the number of points your group would like to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 walk around quietly let me know what your group would like to wager on this last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end of “One of These Days”, Marquez describes a spider by say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ile the dentist washed his hands, he saw the crumbling ceiling and a dusty spider web with spider’s eggs and dead insec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might this spider symbolize?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t least two pieces of evidence to support/explain your clai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ELCOME TO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NGLISH 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 flipH="1">
            <a:off x="3581280" y="5334120"/>
            <a:ext cx="1828800" cy="121896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2403" h="21600">
                <a:moveTo>
                  <a:pt x="0" y="0"/>
                </a:moveTo>
                <a:lnTo>
                  <a:pt x="32403" y="0"/>
                </a:lnTo>
                <a:lnTo>
                  <a:pt x="32403" y="21600"/>
                </a:lnTo>
                <a:lnTo>
                  <a:pt x="0" y="21600"/>
                </a:lnTo>
                <a:close/>
              </a:path>
              <a:path fill="lightenLess" w="32403" h="21600">
                <a:moveTo>
                  <a:pt x="0" y="0"/>
                </a:moveTo>
                <a:lnTo>
                  <a:pt x="32403" y="0"/>
                </a:lnTo>
                <a:lnTo>
                  <a:pt x="31003" y="1400"/>
                </a:lnTo>
                <a:lnTo>
                  <a:pt x="1400" y="1400"/>
                </a:lnTo>
                <a:close/>
              </a:path>
              <a:path fill="darken" w="32403" h="21600">
                <a:moveTo>
                  <a:pt x="32403" y="0"/>
                </a:moveTo>
                <a:lnTo>
                  <a:pt x="32403" y="21600"/>
                </a:lnTo>
                <a:lnTo>
                  <a:pt x="31003" y="20200"/>
                </a:lnTo>
                <a:lnTo>
                  <a:pt x="31003" y="1400"/>
                </a:lnTo>
                <a:close/>
              </a:path>
              <a:path fill="darkenLess" w="32403" h="21600">
                <a:moveTo>
                  <a:pt x="32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3" y="20200"/>
                </a:lnTo>
                <a:close/>
              </a:path>
              <a:path fill="lighten" w="32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3" h="21600">
                <a:moveTo>
                  <a:pt x="12703" y="10800"/>
                </a:moveTo>
                <a:lnTo>
                  <a:pt x="23208" y="3794"/>
                </a:lnTo>
                <a:lnTo>
                  <a:pt x="23208" y="17806"/>
                </a:lnTo>
                <a:close/>
              </a:path>
              <a:path fill="darken" w="32403" h="21600">
                <a:moveTo>
                  <a:pt x="9195" y="3794"/>
                </a:moveTo>
                <a:lnTo>
                  <a:pt x="10858" y="3794"/>
                </a:lnTo>
                <a:lnTo>
                  <a:pt x="10858" y="17806"/>
                </a:lnTo>
                <a:lnTo>
                  <a:pt x="91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724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 FILL-IN THE BLANKS</a:t>
            </a:r>
            <a:br>
              <a:rPr sz="4400"/>
            </a:b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*400*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2286000"/>
            <a:ext cx="845820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reason that people oppose the new health care bill is that it will cost lots of money, and they fear it will cause ________ ta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685800" y="4343400"/>
            <a:ext cx="9829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hrewd/shrewd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dium/odious/odi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xorbitant/exorbitant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ser/miser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stow/bestows/bestow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mpaigns/campaig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empt/contemptu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stentation/ostentatious/ostentatious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602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210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reason that people oppose the new health care bill is that it will cost lots of money, and they fear it will caus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orbi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 FILL-IN THE BLANKS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2286000"/>
            <a:ext cx="8458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all her friends decided to go to a party and drink, Mesha made the ______ decision not to go, so when the cops busted up the party, she didn’t get in tro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685800" y="4343400"/>
            <a:ext cx="9829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hrewd/shrewd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dium/odious/odi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xorbitant/exorbitant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ser/miser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stow/bestows/bestow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mpaigns/campaig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empt/contemptu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stentation/ostentatious/ostentatious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602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0"/>
            <a:ext cx="8458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all her friends decided to go to a party and drink, Mesha made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rew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ision not to go, so when the cops busted up the party, she didn’t get in tro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DOUBLE JEOPARDY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7:31:47Z</dcterms:created>
  <dc:creator>Beebem</dc:creator>
  <dc:description/>
  <dc:language>en-US</dc:language>
  <cp:lastModifiedBy>Carolynn</cp:lastModifiedBy>
  <dcterms:modified xsi:type="dcterms:W3CDTF">2010-03-19T12:55:24Z</dcterms:modified>
  <cp:revision>58</cp:revision>
  <dc:subject/>
  <dc:title>QUADRILATERALS</dc:title>
</cp:coreProperties>
</file>